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B54D-1A99-4089-A949-E23BEB1A7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508E-0BD5-482D-B051-F124AFED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EB0C-AC93-4A28-AFBD-8C705DF6E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35A5-3E60-44F6-95F5-0CDBA7A7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F244-D3D7-4EB4-BFD6-C9EDEAFB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76E1-D810-49EF-BD5B-23B98DDB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0E6E-D2A4-4967-A567-254BCB4E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25EF-6D68-4382-A339-E24342DF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DE38-039C-4BFC-84E1-AB80D07C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05A9-B813-450C-9092-E2DBFA30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9EA5-7541-4237-B86C-B926A33F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4DF5-312B-4F00-840D-3D91CADB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100E-8F07-44D6-A42C-B0E59ABD2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itre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gare et le 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ù sont ces ge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train a du retard ou les voyageurs sont en retard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600200" y="2590920"/>
            <a:ext cx="6019920" cy="40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’est-ce que c’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 type?  Quelles instructions y a-t-i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les sont les deux villes du voy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2930400"/>
            <a:ext cx="739152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’est-ce que l’homme fa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14368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’est-ce qu’elle fa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’est-ce que vous allez faire en tr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505320" y="2438280"/>
            <a:ext cx="23828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’est-ce qu’elle va fai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ù est-ell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’est-ce qu’elle achè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962520" y="2590920"/>
            <a:ext cx="43434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ù sont ces ge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font-i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505320" y="2743200"/>
            <a:ext cx="46479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 y a deux trains 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vieille dame, qu’est-ce qu’elle a?  Donc, qu’est-ce qu’elle va faire?  Et la jeune femme?  Qu’est-ce qu’elle fa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3352680"/>
            <a:ext cx="586728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’est ce qui s’est passé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écrivez la phot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39621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 maintenant, pour vou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lez avec une camarade de classe d’un voyage en train que vous allez prend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’est-ce que vous allez faire à la g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ù allez vous?  De quel type de billet avez-vous beso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c qui allez-vous parler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’est-ce que vous faites en tr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us allez lire, écrire, arriver en retard, arriver à l’heure, etc.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’est-ce que c’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signifie TGV et SNC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76720" y="2286000"/>
            <a:ext cx="44956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ù sont-ils, ces ge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-ce que vous reconnaissez ce bâti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3657600"/>
            <a:ext cx="6400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 sont ces ge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’est-ce qu’ils fo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’est-ce qu’ils dis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44388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’est-ce que ces gens fo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s parlent avec qu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fait un passager?  Et un autre? Les t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733920" y="2743200"/>
            <a:ext cx="479088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ù sont-ils, ces gens?  Qu’est-ce qu’ils fo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’est-ce que c’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’est-ce qu’on vend?  Qui sont les ge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828800" y="2338560"/>
            <a:ext cx="5486400" cy="36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’est-ce que c’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quelle heure est-ce que le train pour Montpellier part-il?  De quelle vo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429000" y="2743200"/>
            <a:ext cx="2585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 voyageurs sont où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ent est-ce qu’on identifie leur vo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6096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23:37:57Z</dcterms:created>
  <dc:creator>edill</dc:creator>
  <dc:description/>
  <dc:language>en-US</dc:language>
  <cp:lastModifiedBy>edill</cp:lastModifiedBy>
  <dcterms:modified xsi:type="dcterms:W3CDTF">2011-10-17T00:45:21Z</dcterms:modified>
  <cp:revision>7</cp:revision>
  <dc:subject/>
  <dc:title>Chapitre 9</dc:title>
</cp:coreProperties>
</file>